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504-3A70-4A36-9E2F-9B2F19D7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8166-6767-4555-9AF2-B230F2D2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587-DA3D-441F-897E-02176F58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91D-4C09-4EBF-9781-92316B06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3F7-3F0E-4F71-9D11-9B97E308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EEF-DACD-4798-91D6-8DB14573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3F3-FAC8-410B-9E36-4550D9D7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865-2B45-4E95-95DA-420CD429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961-C34E-42AE-A69E-E157661C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1C8-AAEC-411B-BCFE-ABF90B14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11C-C8A9-46CF-ADE5-74783E89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A4A-B138-4FBF-B899-94E83579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073F-780C-4EBE-B4ED-4BCB14B22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Alison Cunningha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Sopho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866" t="0" r="1866" b="0"/>
          <a:stretch/>
        </p:blipFill>
        <p:spPr>
          <a:xfrm>
            <a:off x="3048120" y="1828800"/>
            <a:ext cx="3213000" cy="4724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760" y="1142640"/>
            <a:ext cx="51814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Baby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4124" t="2877" r="3266" b="0"/>
          <a:stretch/>
        </p:blipFill>
        <p:spPr>
          <a:xfrm>
            <a:off x="304920" y="304920"/>
            <a:ext cx="4213080" cy="632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Pho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contrast="30000"/>
          </a:blip>
          <a:srcRect l="1918" t="3250" r="0" b="3105"/>
          <a:stretch/>
        </p:blipFill>
        <p:spPr>
          <a:xfrm>
            <a:off x="1371600" y="1295280"/>
            <a:ext cx="6454800" cy="500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Partne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Hand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3073" r="2041" b="1540"/>
          <a:stretch/>
        </p:blipFill>
        <p:spPr>
          <a:xfrm>
            <a:off x="1066680" y="1523880"/>
            <a:ext cx="7083720" cy="4840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Ghosting and Lig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749" t="4167" r="4039" b="5867"/>
          <a:stretch/>
        </p:blipFill>
        <p:spPr>
          <a:xfrm>
            <a:off x="1295280" y="1295280"/>
            <a:ext cx="6402600" cy="4341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Lig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12000"/>
          </a:blip>
          <a:srcRect l="6000" t="6842" r="3000" b="8348"/>
          <a:stretch/>
        </p:blipFill>
        <p:spPr>
          <a:xfrm>
            <a:off x="1066680" y="1447920"/>
            <a:ext cx="6929640" cy="4647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24280" y="1066320"/>
            <a:ext cx="426744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Emul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679" t="0" r="1836" b="1318"/>
          <a:stretch/>
        </p:blipFill>
        <p:spPr>
          <a:xfrm>
            <a:off x="228600" y="914400"/>
            <a:ext cx="4329000" cy="5640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rcRect l="1082" t="2405" r="841" b="2405"/>
          <a:stretch/>
        </p:blipFill>
        <p:spPr>
          <a:xfrm>
            <a:off x="4876920" y="2971800"/>
            <a:ext cx="4032000" cy="313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2520" y="1599840"/>
            <a:ext cx="3962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Partn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6761" t="9000" r="8146" b="3959"/>
          <a:stretch/>
        </p:blipFill>
        <p:spPr>
          <a:xfrm>
            <a:off x="687240" y="225360"/>
            <a:ext cx="4232520" cy="625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Cross-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7:24:01Z</dcterms:created>
  <dc:creator>bal_aacunningham</dc:creator>
  <dc:description/>
  <dc:language>en-US</dc:language>
  <cp:lastModifiedBy>bal_aacunningham</cp:lastModifiedBy>
  <dcterms:modified xsi:type="dcterms:W3CDTF">2009-05-15T17:08:51Z</dcterms:modified>
  <cp:revision>5</cp:revision>
  <dc:subject/>
  <dc:title>Alison Cunningham Sophomore</dc:title>
</cp:coreProperties>
</file>